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809-AE2C-4DDF-BD4C-387E6774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7FA-EC38-4A59-813C-67FD58D6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6E9-7210-4C9B-BB9B-E320A63D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CF2-E075-4EEE-BDF1-464F8511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692-2626-40F3-8257-E3F98935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A1B-6479-48CF-9C13-F439A723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500-A62E-4BFB-BC95-DAC7E6F5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1F1-198C-4941-B98B-B63609D7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052-11DA-4EB9-9E59-B90EF6EF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4EE-0190-4BBD-9FD0-465FCCCA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E81-1713-4FE9-AA52-5F5407E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4E3-DD08-48C3-B2C9-6276E61B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5B6E-6E23-479B-A778-1EE02A81D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a. Ort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feliz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el apellido (last name)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familia mexicana de 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Sánchez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 lugar donde vive la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ánch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Tepic, Nayari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anera de saludars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igos/amigas 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con un beso en las mejilla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rlfri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a nov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amiga que Ana cono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 gimnas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Patric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tienda  adonde Ana, Susan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 Juana v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Gigan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expresión de bienv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“Mi casa es su casa”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a vid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nombres de las hijas de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milia Sánch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es son Juana y Susan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um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cabul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ciudad donde Ana camb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viones para regresa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ifor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Guadalajar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diferencia en usar ag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casas 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no tiene agua calien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bai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mecánico y el pad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 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Robert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ciudad donde Ana 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 su famil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Hermosa Beach, Californ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a casa típica en Tep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una casa pequeña con un bañ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irpl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avió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el hermano de 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Do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escuela americana de 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West Torrance High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baile famoso en Tep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a cumb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erebate</cp:lastModifiedBy>
  <cp:lastPrinted>2001-01-31T16:21:13Z</cp:lastPrinted>
  <dcterms:modified xsi:type="dcterms:W3CDTF">2006-05-05T18:34:33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